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676C-4654-4129-A29E-C9162BEF78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-subject research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table use: All students us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uided not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not just those with disabilities/low achie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ility in use: use varied instructional procedures (lecture, hands-on activity, discussion grou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&amp; intuitive: use grading rubric, follow sylla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ble information: repeat key phrases, distribute class materials electron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lerance for error: anticipate variability in pace and skills; online tutorials, frequent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physical effort: allow work on computer instead of manual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&amp; space for approach and use: circular seating arrangement so everyone can see one another when spe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ty of learners: learn students’ names, organize e-mail lists and discussion bo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al climate: open/welcoming, respect, high expec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8CE-58D9-497A-8043-73973754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19FE-ACD1-4903-9292-1669A5FB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5D8-ECB9-416B-9B24-27CF59D3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814-4841-4069-85A8-7554A888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CC8B-E50F-42A6-91C6-92765D51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A1A7-C74E-4E2B-A17D-B99F3FD6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7682-06FB-487F-A2AE-6D13F8DA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C1D6-6515-4E18-A259-0F783089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D45D-608D-43C9-B3F4-1514E604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0B2B-F6B4-4828-94C2-85BBE336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8DD3-66A0-4AE3-AC39-8E438421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F30-FD62-4CF0-9870-D13FCB3B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392C-36D0-410E-AD69-A2EE8BFE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7247-785C-46A2-AF8A-4271F92E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686D-404E-4F23-915E-91B8A440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47A1-381B-4DCD-B2A9-D1833D0F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91DF-DE0D-4A4C-AF60-5BCE2487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F8B-3C24-4174-84A1-17311E87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1B9-4C66-44D1-94FB-0B08A6AE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B13-E12A-4E1E-8778-A05A58A9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84CC-177F-4842-A4B4-0FC5DD8A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8836-2726-4DDD-8DE3-102A0445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F391-3D71-48CA-9B8D-06A0AFBC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42D1-FABF-4C82-8CDD-A5DE5C61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F7C1-E5F4-4392-A0AE-7E7668EF4C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623B-C84F-479F-A45D-2F0671201E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ortals.emory.edu/emory_udi_syllabi.html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www.washington.edu/doit/Video/Wmv/temp/ea_udi.asx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www.cast.org/" TargetMode="External"/><Relationship Id="rId2" Type="http://schemas.openxmlformats.org/officeDocument/2006/relationships/hyperlink" Target="http://www.washington.edu/doit/" TargetMode="External"/><Relationship Id="rId3" Type="http://schemas.openxmlformats.org/officeDocument/2006/relationships/hyperlink" Target="http://www.facultyware.uconn.edu/" TargetMode="External"/><Relationship Id="rId4" Type="http://schemas.openxmlformats.org/officeDocument/2006/relationships/hyperlink" Target="http://www.washington.edu/doit/Brochures/PDF/equal_access_uddl.pdf" TargetMode="External"/><Relationship Id="rId5" Type="http://schemas.openxmlformats.org/officeDocument/2006/relationships/hyperlink" Target="http://www.washington.edu/doit/Brochures/PDF/equal_access_uddl.pdf" TargetMode="External"/><Relationship Id="rId6" Type="http://schemas.openxmlformats.org/officeDocument/2006/relationships/hyperlink" Target="http://www.washington.edu/doit/Brochures/PDF/equal_access_uddl.pdf" TargetMode="External"/><Relationship Id="rId7" Type="http://schemas.openxmlformats.org/officeDocument/2006/relationships/hyperlink" Target="http://www.washington.edu/doit/Brochures/PDF/equal_access_uddl.pdf" TargetMode="External"/><Relationship Id="rId8" Type="http://schemas.openxmlformats.org/officeDocument/2006/relationships/hyperlink" Target="http://www.washington.edu/doit/Brochures/PDF/equal_access_uddl.pdf" TargetMode="External"/><Relationship Id="rId9" Type="http://schemas.openxmlformats.org/officeDocument/2006/relationships/hyperlink" Target="http://www.washington.edu/doit/Brochures/PDF/equal_access_uddl.pdf" TargetMode="External"/><Relationship Id="rId10" Type="http://schemas.openxmlformats.org/officeDocument/2006/relationships/hyperlink" Target="http://www.oln.org/ILT/ada/Fame/help_1.html" TargetMode="External"/><Relationship Id="rId11" Type="http://schemas.openxmlformats.org/officeDocument/2006/relationships/hyperlink" Target="http://www.ferris.edu/htmls/colleges/university/disability/faculty/udl.cfm" TargetMode="External"/><Relationship Id="rId1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accessproject.colostate.edu/udl/documents/index.cfm" TargetMode="External"/><Relationship Id="rId2" Type="http://schemas.openxmlformats.org/officeDocument/2006/relationships/hyperlink" Target="http://telr.osu.edu/dpg/fastfact/fastfactcolor/Universal.pdf" TargetMode="External"/><Relationship Id="rId3" Type="http://schemas.openxmlformats.org/officeDocument/2006/relationships/hyperlink" Target="http://teachingeverystudent.blogspot.com/2007/01/free-technology-toolkit-for-udl-in-all_12.html" TargetMode="External"/><Relationship Id="rId4" Type="http://schemas.openxmlformats.org/officeDocument/2006/relationships/hyperlink" Target="http://teachingeverystudent.blogspot.com/2007/01/free-technology-toolkit-for-udl-in-all_12.html" TargetMode="External"/><Relationship Id="rId5" Type="http://schemas.openxmlformats.org/officeDocument/2006/relationships/hyperlink" Target="http://teachingeverystudent.blogspot.com/2007/01/free-technology-toolkit-for-udl-in-all_12.html" TargetMode="External"/><Relationship Id="rId6" Type="http://schemas.openxmlformats.org/officeDocument/2006/relationships/hyperlink" Target="http://teachingeverystudent.blogspot.com/2007/01/free-technology-toolkit-for-udl-in-all_12.html" TargetMode="External"/><Relationship Id="rId7" Type="http://schemas.openxmlformats.org/officeDocument/2006/relationships/hyperlink" Target="http://gwired.gwu.edu/dss/Newsletters/Fall05UDL/" TargetMode="External"/><Relationship Id="rId8" Type="http://schemas.openxmlformats.org/officeDocument/2006/relationships/hyperlink" Target="http://gwired.gwu.edu/dss/Newsletters/Fall05UDL/" TargetMode="External"/><Relationship Id="rId9" Type="http://schemas.openxmlformats.org/officeDocument/2006/relationships/hyperlink" Target="http://gwired.gwu.edu/dss/Newsletters/Fall05UDL/" TargetMode="External"/><Relationship Id="rId10" Type="http://schemas.openxmlformats.org/officeDocument/2006/relationships/hyperlink" Target="http://gwired.gwu.edu/dss/Newsletters/Fall05UDL/" TargetMode="External"/><Relationship Id="rId11" Type="http://schemas.openxmlformats.org/officeDocument/2006/relationships/hyperlink" Target="http://kysig.louisville.edu/whatis.htm" TargetMode="External"/><Relationship Id="rId12" Type="http://schemas.openxmlformats.org/officeDocument/2006/relationships/hyperlink" Target="http://kysig.louisville.edu/whatis.htm" TargetMode="External"/><Relationship Id="rId13" Type="http://schemas.openxmlformats.org/officeDocument/2006/relationships/hyperlink" Target="http://kysig.louisville.edu/whatis.htm" TargetMode="External"/><Relationship Id="rId14" Type="http://schemas.openxmlformats.org/officeDocument/2006/relationships/hyperlink" Target="http://kysig.louisville.edu/whatis.htm" TargetMode="External"/><Relationship Id="rId15" Type="http://schemas.openxmlformats.org/officeDocument/2006/relationships/hyperlink" Target="http://kysig.louisville.edu/whatis.htm" TargetMode="External"/><Relationship Id="rId16" Type="http://schemas.openxmlformats.org/officeDocument/2006/relationships/hyperlink" Target="http://kysig.louisville.edu/whatis.htm" TargetMode="External"/><Relationship Id="rId17" Type="http://schemas.openxmlformats.org/officeDocument/2006/relationships/hyperlink" Target="http://kysig.louisville.edu/whatis.htm" TargetMode="External"/><Relationship Id="rId18" Type="http://schemas.openxmlformats.org/officeDocument/2006/relationships/hyperlink" Target="http://kysig.louisville.edu/whatis.htm" TargetMode="External"/><Relationship Id="rId19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actical Applications of Universal Design for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83160" y="5791320"/>
            <a:ext cx="456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yan G. C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essor, University of Hawa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View of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DI’s Guiding Princi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ultiple/alternative means of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g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llab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56272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on Problems with Syllab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imes not handed ou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ant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format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left 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follow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s, readings, assignments, grading criteria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llabi ofte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f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ud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c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s, prerequisites, contact info., textboo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urse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. topics, exam dates, assignments, rea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ade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urse poli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dies/absences, late assignments, test/ assignment make-ups, academic miscon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ditional materi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voi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ing “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xt-heav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can be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h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llabus only effective when it guides cour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ick to syllab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hanges are necessary, clearly inform stud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cessitates significan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essi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8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seminate electronically/ post on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8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ad aloud by a screen reader, magnified, saved as an MP3 audio file, transferred to a Braille file, translated into another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8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 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bility stat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8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http://www.hawaii.edu/kokua/faculty.htm#syllabu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8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ite students with disabilities and other learning needs to meet with you priv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portals.emory.edu/emory_udi_syllabi.htm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for examples of UDI syllab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rriculum and Instr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71600" y="2017800"/>
            <a:ext cx="64404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ed to Universalize C&amp;I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ominant mode of instruction i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hending and taking notes simultaneously difficult for s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have trouble discerning important inform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 can get lost i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struction that is not cle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cused Curricul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ritical concep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organize course around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can be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ltiple exposur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key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33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724280" cy="71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Participants w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understand t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e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to universally design instr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learn t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guiding princip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of universal design for instruction (UD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learn practical UDI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ultiple Means of Repres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aried instruction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lecture with a visual outline, group activities, hands-on activities, web-based discussions boards, video cl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ass materia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fferent form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lectronic ver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be translated into various form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r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c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make avail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podca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ple Means of Eng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acti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pportunities (online, in class) at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fferent lev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at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ighlight divers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different ways of thin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student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oi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class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ps for Maximizing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udent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/ stimulat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ackground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ighligh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tical concep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ea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ritical concepts, using multiple me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voi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unnecessary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jarg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lex te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lots o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ss Clim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8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elco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very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8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and deman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p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8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pproachable and acces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8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 students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8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out and value students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ints of 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8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tiva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ude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8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positive and challen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8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relevant materials/assig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deo cl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://www.washington.edu/doit/Video/Wmv/temp/ea_udi.as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a video-clip on applying UDI to post-secondary classroo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09680" y="2017800"/>
            <a:ext cx="571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eed to Universalize Assessme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ssessments measure reading and writing 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ore than content being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udents often unclea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n what is being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students with disabilities don’t request testing accommod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ultiple Means of Repres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blems in multiple w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ess testing is specific to a particular mod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Math problem expressed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ord problem and graph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ad written problems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mp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lou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ple Means of Expre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student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fferent mea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express mastery of the con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ritten paper, applied project, live presentation, narrated computer presentation, portfolio, multiple choice 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handwritten or on lapt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vary assess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ple Means of Eng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ppropriate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vide choic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focus of assess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differentiate assessment based on specialty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provide different essay or project topics from which students sel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tudents select topic for reading/ writing assignment in foreign language cla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 of Pres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 to UD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DI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llab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iculum and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irically Validated Instructional Techniques Consistent with UD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No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ause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 Organiz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st what you teac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e what will be covered/ what is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model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students scoring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ubr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 study gu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plenty of “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ite sp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on 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ocabulary/ phras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t i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asy to underst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nimize time constrai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n appropr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tive vs. Summa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multiple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rma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ssess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ine students’ progress along the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iweekly quizzes rather than one final ex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requent and meaningful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teach/ revie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s indicated by assess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uided No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297320" cy="50292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6629040"/>
            <a:ext cx="777240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557600" y="914400"/>
            <a:ext cx="4586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Need for Guided Not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Dominant instructional mode is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lectur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mands extensive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ote-tak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tudents typically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take poor not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Quality and completeness of notes strongly predict student outcom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715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uided Note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t and How to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N = handouts that guide students through a l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Identify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most important course con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  <a:ea typeface="Arial"/>
              </a:rPr>
              <a:t>Less can be mor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Delete key facts, concepts, and relationship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from lecture out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Remaining information structures and contextualizes no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uided Note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t and How to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sert c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(*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) to indicate where and how many facts/concepts to write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ther symbo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for adding own examples/questions for review (!) or emphasizing “big ideas” (</a:t>
            </a: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Leav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lenty of sp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on’t require too much wr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clud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dditional resour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such as URLs and 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uided Notes: Rationa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 with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UDI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ove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cura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no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re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udents from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cessive wri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tively involv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udents in constructing notes and following l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Ns: Research Highli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zarus (1993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eg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w/ L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quiz scores after using 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ssell et al. (1983): Positive effects of GNs when using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not l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tin et al. (2002): College student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ferr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using 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use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ed for Pause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ypical lecture, students given little opportunity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fl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n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cu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cess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best students hav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mited attention sp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ed for UD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creasingly diver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llege student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0% age 25 or 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1% racial/ethnic minor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4% attending college part-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% increase in international students from 1998 to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ents with disabilit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3% in 1978 to 9.8% in 199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ause Procedure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2017440"/>
            <a:ext cx="811692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or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e.g., 2-minute)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iodic brea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review notes and discuss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use a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ural breaks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pp. every 15 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timer for end of bre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uses ca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ndependen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not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/or short writing assig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group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e.g., dyad) discussion of no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time for unresolved ques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use Procedure: Rationa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429000" y="1904760"/>
            <a:ext cx="5410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stent with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DI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cura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not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tudents time to reflect, integrate, and ask ques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students and instructor with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rea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1312920" cy="1981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57200" y="441972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use Procedure in Action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2 minutes and think about how you might use the pause proced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P: Research Highli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P=higher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ree rec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st sco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Ruhl et al., 1990) and mor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complete note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Ruhl &amp; Suritsky, 1995) for college students w/ 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Higher exam scores when using pauses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personal written or discussion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f students’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 preference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(Braun &amp; Simpson, 2004)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use Procedure in 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down ideas for how you might modify or add to the pause procedure when you use it (2 minut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phic Organiz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65632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Need for Graphic Organizer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crepa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etween texts and students’ reading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complai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t enough 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read and digest tex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ctures often not eff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often study by memorizing facts, rather tha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nderstanding relationshi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phic Organizer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The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and graphic displa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depicting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n course con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d organizers, Venn diagrams, concept/spider/story maps, flowcharts, hierarch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ne-dimensional out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696440" cy="47322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ider M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133720" y="617400"/>
            <a:ext cx="6095880" cy="58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ed for UD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emphasis o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student re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ift in pedagogy from delivering instruction to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moting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ge students repor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clear expec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xtbooks inacce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ctur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extensive noteta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ssmen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n’t reflec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i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ear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attaining accommod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469880" y="617400"/>
            <a:ext cx="716436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182600" y="1828800"/>
            <a:ext cx="7123320" cy="50292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lowch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phic Organizers: How to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provi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le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GOs to stud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 by view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ca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truct ow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G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 by do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can finaliz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partially comple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G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phic Organizers: Rationa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 with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UDI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icitly and visually present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lationship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etween concep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cilitate 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nmemoriz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 study strateg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GOs: Research Highlights 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research located on GOs for college students w/ disabilit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sitive eff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igher order knowled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ut not on facts (Robinson &amp; Kiewra, 1995); o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lay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ut not immediate tests (Robinson et al., 1998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z scores higher using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rtially complet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s (Robinson et al., 2006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 to many students constructing own G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ding Thought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DI and Accommod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udents with disabil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legally entitled to, and will ofte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ill need, reasonable accommoda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ising notion, but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re resear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arran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ademic integr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programs and cours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treatment and evaluation across stud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ion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whom will UDI be effecti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we as individuals implement and maintain UDI related instruc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we foster a broader adoption of UD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ks to UDI Re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www.cast.org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center for applied special technology site devoted to U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2"/>
              </a:rPr>
              <a:t>www.washington.edu/doit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U. of Washington’s Do-It program’s site, extensive resources for U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3"/>
              </a:rPr>
              <a:t>www.facultyware.uconn.edu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U. of Connecticut’s site devoted to UDI for facul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4"/>
              </a:rPr>
              <a:t>http://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5"/>
              </a:rPr>
              <a:t>washington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7"/>
              </a:rPr>
              <a:t>edu/doit/Brochures/PDF/equal_access_uddl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8"/>
              </a:rPr>
              <a:t>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9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brochure regarding UDI for distance lear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0"/>
              </a:rPr>
              <a:t>www.oln.org/ILT/ada/Fame/help_1.htm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Ohio State’s site devoted to UDI for faculty and administr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1"/>
              </a:rPr>
              <a:t>www.ferris.edu/htmls/colleges/university/disability/faculty/udl.cf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overview of UD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Links to UDI Re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accessproject.colostate.edu/udl/documents/index.cf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, Colorado State’s Project Access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2"/>
              </a:rPr>
              <a:t>http://telr.osu.edu/dpg/fastfact/fastfactcolor/Universal.pd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, fast facts regarding UDI and good teach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3"/>
              </a:rPr>
              <a:t>teachingeverystudent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4"/>
              </a:rPr>
              <a:t>.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5"/>
              </a:rPr>
              <a:t>blogspot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6"/>
              </a:rPr>
              <a:t>.com/2007/01/free-technology-toolkit-for-udl-in-all_12.htm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, free technology-related resourc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7"/>
              </a:rPr>
              <a:t>gwired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8"/>
              </a:rPr>
              <a:t>.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9"/>
              </a:rPr>
              <a:t>gwu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0"/>
              </a:rPr>
              <a:t>.edu/dss/Newsletters/Fall05UDL/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, guide for incorporating UD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1"/>
              </a:rPr>
              <a:t>http: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2"/>
              </a:rPr>
              <a:t>//kysig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3"/>
              </a:rPr>
              <a:t>.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4"/>
              </a:rPr>
              <a:t>louisville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5"/>
              </a:rPr>
              <a:t>.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6"/>
              </a:rPr>
              <a:t>edu/whatis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7"/>
              </a:rPr>
              <a:t>.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8"/>
              </a:rPr>
              <a:t>ht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, UDI description with specific exampl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stin, J. L., Lee, M. G., Thibeault, M. D., Carr, J. E., &amp; Bailey, J. S. (2002). Effects of guided notes on university students' responding and recall of information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ournal of Behavioral Education, 1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243-25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un, R. L., &amp; Simpson, W. R. (2004). The pause method in undergraduate auditing: An analysis of student assessments and relative effectiveness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vances in Accounting Education Teaching and Curriculum Innovations, 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69-8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zarus, B. D. (1993). Guided notes: Effects with secondary and post secondary students with mild disabilities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ducation &amp; Treatment of Children, 1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272-289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binson, D. H., Katayama, A. D., Beth, A., Odom, S., Hsieh, Y., &amp; Vanderveen, A. (2006). Increasing text comprehension and graphic note taking using a partial graphic organizer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ournal of Educational Research, 1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103-11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binson, D. H., Katayama, A. D., Dubois, N. F, &amp; Devaney, T. (1998). Interactive effects of graphic organizers and delayed review on concept acquisition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ournal of Experimental Education, 6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17-3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igins of UD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647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uildings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designed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for the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“average”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ers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trofitt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commodate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trofits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expensive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, call attention to user,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solve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one problem at a tim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45120" y="2104920"/>
            <a:ext cx="380988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binson, D. H., &amp; Kiewra, K.A. (1995). Visual argument: Graphic organizers are superior to outlines in improving learning from text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ournal of Educational Psychology, 87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5-46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hl, K. L., Hughes, C. A., &amp; Gajar, A. H. (1990). Efficacy of the pause procedure for enhancing learning disabled and nondisabled college students’ long- and short-term recall of facts presented through lecture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earning Disability Quarterly, 1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55-6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hl, K. L., &amp; Suritsky, S. (1995). The pause procedure and/or an outline: Effect on immediate free recall and lecture notes taken by college students with learning disabilities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earning Disability Quarterly, 1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2-1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ssell, I. J., Caris, T. N., Harris, G. D., &amp; Hendricson, W. D. (1983). Effects of three types of lecture notes on medical student achievement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ournal of Medical Education, 5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627-636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tt, S. S., McGuire, J. M., &amp; Shaw, S. F. (2001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inciples of universal design for instruction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rs, CT: University of Connecticut, Center on Post-secondary Education and Disabilit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igins of UD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80920" y="2017800"/>
            <a:ext cx="5373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 design considers “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roades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range of us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rom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n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(Ron Mace, archit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amps, curb cuts, electric doors, TV captions, easy grip tool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s access for many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intende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2908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UDI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sign of instructional materials and activities that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kes the learning goals achievable by individuals with wide differences in their abil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 (Council for Exceptional Childr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sentially, proactive instruction to meet the needs of diverse lear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nciples of UDI (or L or E)</a:t>
            </a: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Scott, McGuire, &amp; Shaw, 2001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quitable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exibility in 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mple and intui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ceptible inform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lerance for err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 physical eff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and space for approach and u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munity of learn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structional clim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0:31:25Z</dcterms:created>
  <dc:creator>Bryan Cook</dc:creator>
  <dc:description/>
  <dc:language>en-US</dc:language>
  <cp:lastModifiedBy>College of Education University of Hawaii</cp:lastModifiedBy>
  <dcterms:modified xsi:type="dcterms:W3CDTF">2009-07-16T08:33:18Z</dcterms:modified>
  <cp:revision>123</cp:revision>
  <dc:subject/>
  <dc:title>Universal Design for Learning</dc:title>
</cp:coreProperties>
</file>